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548-A38C-470E-8BB0-8315B000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73D-9B77-4E69-AE94-4FFCDAAF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E0EC9-C834-4AF9-BBB2-103FF90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8EC54-F9CB-42F9-BA85-C41C4AEE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0B908-754D-42EA-9558-BB8FF67B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9C61-382C-4AF6-8389-2AA52D1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36C06-0996-48F7-A807-7FAC0A82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1025A-A4DC-49CE-8D25-64441CE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2A57-EA62-40D5-9318-20010839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AA15-7D72-46C7-9598-A8B3F902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69E16-4B3D-4DCE-A6FD-033ED03F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DD49B-95E6-4162-93B7-61F923DE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650-D9EC-4EB3-9CE5-6B9BD2B1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1B22E-E124-4B1B-8BD7-0AF7E158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FA56B-BDD6-45B9-B095-7BF4DC4C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5F29B-52AC-4299-B66C-F0AD1249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803E6-7132-46EF-B6AD-90808507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E8498-A8C4-481F-B775-1D588384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08050-46A5-458B-9A37-0798C06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FD00F-E879-4AFA-8F4E-493EB8E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D4CF-6F34-48F2-931B-0E196BA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E0166-C062-4C0E-BBDB-0F63984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628B4-AF6A-4F47-A744-EDF6563E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732-3EC6-4125-8C90-96043E50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965F2-9E9B-4116-9A59-1FCAC6B2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743C-1AF1-4156-BAE7-4A69733D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2187-2852-4323-A22A-28DC60B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0AAD5-6981-4183-BF81-01FEFA18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8AB36-A094-42E2-A9EA-A208282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D5295-65C6-4032-9697-AC804DF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DC5AE-C530-4F5A-9D1E-53B48987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6DF62-1CAE-46D1-A04A-E1E0C77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536F3-BA06-48A3-A4D4-A5D6912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82C8F-8DB8-430B-B22E-E0E8A20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25C-1EE0-4589-A3CA-25308684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5855-02D3-4D4B-A524-376B386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CC669-BF7E-449A-8A51-52FC47F4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1862E-E2E2-417A-9B18-A512BE0F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7F74-B0ED-4908-B2F2-444964E6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CB184-C3D4-4114-9381-413948D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6D75A-C041-40C3-BA7F-F98C9F3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D6169-6C11-4FAF-A1EC-35A88B54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4B76-2DED-49EF-AFAA-BB74A00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D41E1-B215-40F0-BE65-53846C9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F6006-A018-4634-8FD6-B0830E9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06B-F1F5-4069-9AB9-708CECB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FDECD-4A41-4FF6-984C-D9128A3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8C3C0-E80A-4CCE-AE24-309F23D7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73A72-AC8A-4FCD-BEED-82C36294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0A765-7F01-421D-B9F6-0DC10949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DC5CB-3044-4DFB-A972-AFA5A6F1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E0286-D73D-4A65-8E57-62500E66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8C4B9-3D07-4C1C-925F-895A72EA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87944-1924-47BC-84B7-8996D8DF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76B5B-BD6E-498B-BA89-485968D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03530-2671-4098-9BAF-480DAC6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FF52-F7A6-4480-92C2-6BF4638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44B54-778D-41EE-A4BD-A8DCC755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781C4-1D30-49D9-A651-F475C32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73EF9-AA68-4AE1-958C-30BE497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67FBF-651B-4510-91F5-020BAFD1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6C87B-8136-4904-80B4-17357F7E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C4B77-0C66-485B-9F8F-3CE1EDE0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7B155-584D-4372-AF0E-978D26A0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9A88E-03B7-41F8-91DF-DB6E35BD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EAD1C-B477-4060-991E-50D433B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4C246-5DCB-4CC4-882C-319520EF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D152-9FA1-4973-9897-69D1BD0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9EF30-1308-455C-AD2E-2590BD72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E78AB-902E-4420-A50E-C549BA78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B62CA-21C0-4453-92E5-FAF45F8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4C370-DB5F-47CE-9DB0-B8571D5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105EA-69E5-48D8-95BF-BA5CCAB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07E2F-7302-4F7D-BBAC-6F11562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54122-9372-4500-A45A-D9C15CE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CFD6C-0F7A-49A4-91D3-B981BD4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44BEC-37A6-45E1-8EF5-B573675A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5068A-5A7D-4BEA-8610-2DA23882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7CD-B407-4882-B79A-58575416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A17AF-BB4B-4CA5-9FE4-14A1FA5F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B29DB-7892-444F-B711-22F92A32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15A49-9962-4E85-9C82-02F245E1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5D1CC-4030-4941-852C-D9302A1A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9EFAA-90F5-4E83-ACA4-9A858368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D4A5A-6D12-465D-8D32-9C66B78B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BE39E-F4A3-4AB6-A3ED-202C6784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40E1D-D339-4344-A1AD-FFB0748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82E19-B0B3-4617-8B86-67DB8D2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8A1E4-3EF8-4E78-810E-3145C535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F91-9A78-4CBA-9FEB-F46502D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9D26D-D6FA-4945-8ED7-9E74695D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DA97E-AA4E-4C95-AE9D-A17D5157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9604A-DECF-4A63-BCAD-136399A5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CC5AA-128C-4059-91D9-DE17616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CDB84-D6AD-4556-B55E-E7419DE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29E1F-8C37-4694-A112-8685C7FD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AACCE-6F04-405E-AA58-4968A2E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F8BC3-4C56-40EC-9235-3EF26BF4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6330C-0A4F-47C4-8145-0F441A5E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E48A1-C441-41F0-926F-38A1BD0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300-918F-4E7D-810A-3F8AB78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B178E-524E-42B5-9F95-0F83BFA9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798AF-BEAC-4370-B83B-81EE666C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093790-C4BF-4630-AB69-4F820B21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519E8-B046-43B2-A782-11CE972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66D48-83DB-46BF-86F9-10A83258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13521-D589-4B62-ACA6-3022847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8A0F7-D904-40F2-BC98-F5813B99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BBFCD-37BB-42D5-8414-2B7084D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8A51A-CD5F-4406-9F29-1E33706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75D9D-DE06-4DFF-ABAB-0DF0B3CC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358-C29D-4E5B-B877-41D5080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B7CE-B55C-4DC3-9AD2-9BE3F16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39E48-AEB7-4303-806C-7ED6340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9976D-B449-46B8-B726-2464C66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68E3C-3A41-401E-A327-80EB1C8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9BF2C-F5B2-471D-B7DC-A32E779B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BE3A5-3E86-40A1-81CA-E56914AC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6ADFC5-8D49-4107-9766-E58F297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D07D8-D856-43CA-BF41-32861B7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562AD-59DB-425D-BA69-6735855D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8E6D6-AACE-4AED-8537-5AB7B5D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024E6-C680-4294-968A-370C12B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C4A4-479E-4D69-8C05-941DEC1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9683D-084D-4B93-BF12-4CFE5A4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2D132-EACE-4509-A75B-ADAD514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FFC7C-511B-4D7C-BD3A-D2546F41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B2AC8-1A43-4A55-BB52-290DBAC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A9080-82B4-46AA-ABC4-19573C47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54E63-5987-4F91-9BCD-4E33A45B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DCC9B-92F9-4312-A5AB-0B1A0C5C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9566C-1313-4281-85F4-FFB95175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A6345-A01D-4728-A83F-763A8CA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F95AD-3E9A-4314-92B1-886D220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52D-A4F6-4F8B-8A10-F5D360A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44A76-F7CA-4D07-8CD1-93AF36FB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59701-B2AB-4088-BD1E-FB4C9E1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15A4C-6B4B-4511-963A-4DAEF49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AE16C-2B71-4EC8-A459-1749031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F49F4-4098-4AB8-94C5-D8FA4C8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FD2AD-CB4F-4BC4-9D13-0C5CB18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96E6E-CB3C-4AC7-8B7E-4C5E41D3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08684-C87C-4670-B0AD-E8219895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85B03-A40D-44EE-8CBE-04CEAB12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49D27-9782-4968-A7CA-99BE028B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76A9-5853-4FFD-B6A1-CAFB24FD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1B8FC-92DD-4DAC-A42C-08A71A8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8A521-C0ED-44B4-8865-EAD7D993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97BFF5-8B10-4A35-999E-C4B1F69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7B809-5EB9-46D7-A0C8-A5EF39C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DC781-893E-42F1-AEEE-D88E92C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039406-F3E8-4B93-8ABD-76BF561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6FA64-E0D2-4760-8766-44AF5BE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21ACB-98C2-4F18-B299-D290024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7A449-2A5A-424F-8B43-DB90F6A8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0521E7-8865-4710-AAA2-9025E83E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076-38DA-4C82-B42A-94061939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EDF07-60E8-4531-BF05-B296E8A9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5511F-800E-4D38-A82D-10509D5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9F27A5-0C9A-4215-A840-0FD8802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4DCFE5-4EEF-41CB-A5D2-B15F578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B8724-394E-470F-A79F-1413296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6798D-54CA-4774-83EC-951090F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D2AD0-A2FF-4781-8AC0-2F7C95F0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3382C-4E68-41A8-9109-7C5336B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5AFDA-04E4-4DB3-82F2-A474B84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90DAB-B9E8-4E82-8CA4-F41E372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72EAF-9ABC-4DAE-918D-EA120F0C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3D3AA-CA3B-4B18-AF86-14E05F0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EADE1-8625-46AD-8A95-48ADE109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A3858-09B3-4767-BC3A-CE7419BE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92010-E799-4D8A-A87D-E3C2356A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57C25-1E57-4B5E-A22A-15BBA89E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0C2368-57BA-4CC5-A1F3-18ADCC1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C676B-779C-4DC1-BB92-552B32E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93DE04-A182-4E0C-BBAD-D1680D7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A51E32-A535-4C59-9D3E-56BDFB90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499E80-7B8A-4A9B-B6A6-0C9B82D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579BF-33B2-4355-BC74-7D3EF1B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C5CDF0-CD7C-40B2-BCD9-2523A4B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E80018-48D6-45CB-9BB4-80C4019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91DBA8-4BCC-416C-8693-CB2F3FC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140DDC-19BD-4FD3-B76F-111EAF7E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2853C-04D8-48B2-BBC7-8349609C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4A235B-5AB4-4B75-9CF8-72278252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27830-472A-4C61-9F0B-64AA672B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961EB-9612-48F9-9919-CA24E66E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FE47EE-1BDB-4F9C-BFD8-B6A04B87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2EC36F-A633-48F7-8E3F-2BC66025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78E7-5D94-4990-8835-B81E83E7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79171D-5C01-4179-B95B-C87BE49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833566-FCFA-4FA0-B6A1-44BF5B2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563843-8F84-4577-9877-31420AC9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FA172-B4AA-45E2-839D-86FFCB1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C352F-66E2-4EB7-9807-AA76049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5D04D-FB60-4354-A553-A1FE538B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D4CA4B-35CA-4E2E-8867-60BE73C7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4B17-761D-4212-A519-3F5DB24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3BD2-DA00-43D0-AE6F-400B0A9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225-DE22-4DF9-AAD4-27AD302C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EB9F-3674-46A6-96CD-7C4136E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A40D-2EA3-4020-B7AC-4B37031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784E-2DFF-4933-900C-AD01FAD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B49F-E575-43E5-8D3C-6D35EB9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40D0-E655-4270-A671-1405103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F348-5B75-4BC7-BF62-63602E8D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9F08-B5CD-47D1-9DBD-B365CAB5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F4DE-737D-4678-952C-19F3D453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4C50E-E15B-4B65-A465-5F77070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A5C5-0A9B-4D77-B7CC-F54ACB2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D4F-1DBF-4F61-A876-D5B44AB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EEE8-7F9F-4F31-BF2D-61D819C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91BB-C489-41B3-A45D-7F0472CD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BF06-F999-40AB-8AF1-6A06FC47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AE15-E7EE-474D-A846-245AD82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8C86-E6E9-4FDF-9E6B-18811EA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70BE-D5A0-4295-8CB5-A7D289E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A61A-A7E1-421B-B6FD-AE60C8AB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6A16-CFA4-4F90-876D-EF26B1CF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4563-E345-4631-B511-96738FD7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F005-812F-4A41-AFC7-2885B251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660-DE5C-42D5-B480-76F2816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160A-9C3B-4185-BFC2-54B73D4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74AE-E7C8-4044-B890-EC7874C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AA7B-E678-440D-BFD7-D73ED575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55E3-8B36-4220-847F-73687C3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3A32-44FC-4123-B916-4C7DFFDA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608F-2828-4F92-82D3-1420C4BA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815E-D87E-468C-AA3D-368C5E0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5F42-5277-4DF9-9845-E5BE73BE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47A6-9FD7-4B84-9F0A-60E203E7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E54F3-E5BC-431F-9D0A-8BDE1BB0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D21-FAD5-46D7-9B2D-C9C3928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44AF3-F1DE-4854-8886-E0A0097D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C2A2-0D93-47E0-BBF4-6DF22C58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B51F-862A-4E68-A665-ECEDD361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28F8-EC81-489A-B49A-70AF27C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241E4-0E95-4F62-9A65-52D5152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2F90-B304-4B9C-8E22-9CA3D435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3ED8-8462-4C6A-8F7F-1B2E97C1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B206-F37F-4D7C-BF99-ABD8B8D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714F-3B47-4860-BBE3-327A3319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8812-5C10-431F-8C1D-06FAB0C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A85-3DFC-4A60-A3B9-2136BE1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1367E-E037-4C23-9F7E-622D43F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DE77-0A3F-492B-BCF9-8188B9C6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D9C8-5287-4963-8CC1-0344C4C7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2DB4-7E19-4607-9DCC-FAC7822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9327B-3B7E-49FA-9F06-A885E4B2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30D7-27EE-43E9-84C8-10B2CDC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1A14-16F5-4620-A215-447FA9F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9E74-344F-49CB-BF07-9CE307DD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5466-1F69-4716-BE0C-7086896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080F-96E6-42E0-B65C-92040B4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4D8-5E29-4E9B-AC48-D4DE0F8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4FEF-BA1F-4815-AD15-07FD5E1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BC5AB-FBEF-4599-81B8-2842B78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A319-C9BE-421F-A5BF-28114ECE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DD08-8587-46D5-A3AE-6A11B985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2A87-7B53-499D-92A5-A99734BB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7B52-7AF6-4222-82F7-19A28F08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D3F3-6505-4879-827C-BBE08FBE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2A5E-62C3-410B-8998-AFEBDA14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AA599-40C3-4501-8177-3E4A48A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DAD2-51B6-4114-85CD-2C1B390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E1C-5F22-46CF-A4D5-3D68B68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0349-13ED-406C-BD1F-424C6BF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4AA90-50E2-458A-A768-9698696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22AFD-93D9-48E7-B496-622705E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37FB8-C6E4-497D-91A8-F576C3A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5DD4E-7EFC-458C-B73E-4C872D8F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4E81C-26A0-453A-B85A-59989E72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BD51-9EF1-4B05-8A5C-47690BD8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C0C9-037F-4980-BD79-96AA1759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EDF0-9F2F-4213-AC31-7009D53B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3A997-A9AE-4A1B-B6F2-0087669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26C-E2D7-4036-A0CD-565D95DE2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5DE7-04D0-4DB1-BA62-B914ADC0B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123D-BBFA-458D-88EC-01A374A9B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5E4-2256-4C4F-AE14-139924241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852-3B0D-4F65-8061-B0B11D0A61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8F6-01E1-457C-9558-C5DB01A17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EFB-B6CC-48F3-B78B-90C0C0FE6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8880-A7A3-482F-BA7E-85F9F87FF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4B7A-FF2A-4F4E-BB6F-F391AA420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8776-0D35-4204-89B1-02C00E44B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8AD8-3FA2-41A0-B664-9905B7C0F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14A-0AE6-4983-8FF2-8AB380A77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EBB0-3789-4699-9657-5E4A72197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D0EC-6101-4E37-A08D-76BDEEAEC5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5EC9-F342-48C4-8438-28B2D11937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566-D50D-4974-A868-8BD966623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7D8-9F10-4322-9DC8-89C1D7EB3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C91-FFE6-430A-AFFC-DF1C920DB5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51D-0432-4144-8A7B-78E908C9F4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663-5513-49F0-BFBF-7D879BB54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48C-D90A-435F-8E1A-68E685BE6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72C4-A8B0-42F5-9A13-D75AE79453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918B-94DA-4A1C-8D8D-F2C0160D8D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43E-FB1B-4FD4-A126-0A6FADD77E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D75-E5E5-4F6A-86DD-9361DAACA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7B93-78EB-4969-A7CE-98847205D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000C-4134-403E-8FCD-0BEC5926A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F91A-26CF-4F7C-92C2-3FEC0BA28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FB1-9509-4857-833A-FAB63A7A0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1CC-F50D-4975-AB89-FDEE73A8C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EF28-1E04-4E60-9FF8-87BC1C80A0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225-6EEB-4972-850F-22C75179E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4833-777B-4FC3-A298-2BA7ECAE67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0EE0-ADB3-4252-8C22-F450319B27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84D-1FD3-41D4-B595-2D867B3EC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4B3-4CE2-496F-8392-E7C299A03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01E-FAA6-403D-A830-664460DB6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1E7-0AA3-4314-9175-FD1AABBD6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6788-24BA-4566-8D4A-1A9059DC3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1A16-F342-4174-8529-3E8BEB287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A0E-3FD9-482D-87BC-9F1014246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34FC-1360-47CE-B40D-CAB9DFC40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47560" y="3063960"/>
            <a:ext cx="828360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55480" y="162000"/>
            <a:ext cx="8377560" cy="6534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780000" y="10382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1700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364000" y="299736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276720" y="432288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932360" y="494172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2268360" y="558972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4932360" y="560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380360" y="56325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71600" y="1709640"/>
            <a:ext cx="8200800" cy="3438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7020000" y="18302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219640" y="391968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3419640" y="458136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993600" y="115920"/>
            <a:ext cx="6162840" cy="6626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2368440" y="1773360"/>
            <a:ext cx="17719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2808360" cy="45529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437080" y="1801800"/>
            <a:ext cx="17719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4500720" y="2276640"/>
            <a:ext cx="2808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533520" y="615960"/>
            <a:ext cx="8200800" cy="6172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712800" y="1341360"/>
            <a:ext cx="2952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598840" y="635040"/>
            <a:ext cx="15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111560" y="1341360"/>
            <a:ext cx="3989520" cy="5183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5997600" y="649440"/>
            <a:ext cx="25351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409680" y="1585800"/>
            <a:ext cx="8324640" cy="3686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368440" y="2708280"/>
            <a:ext cx="389160" cy="345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6919920" y="27082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2482920" y="364500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6934320" y="360216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2484360" y="4538520"/>
            <a:ext cx="389160" cy="346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6818400" y="4524480"/>
            <a:ext cx="38880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85760" y="1809720"/>
            <a:ext cx="8772480" cy="3238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4106880"/>
            <a:ext cx="532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62080" y="623880"/>
            <a:ext cx="8724600" cy="6210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4896000" cy="663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826920" y="501336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567540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8661600" cy="17874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573200" y="3494160"/>
            <a:ext cx="6772320" cy="2266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319560" y="2276640"/>
            <a:ext cx="8208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9832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15636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31708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831708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53520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49236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227640" y="413532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6027840" y="4724280"/>
            <a:ext cx="64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1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